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inng04.wav" ContentType="audio/x-wav"/>
  <Override PartName="/ppt/media/peopleooo.wav" ContentType="audio/x-wav"/>
  <Override PartName="/ppt/media/jetflyby2.wav" ContentType="audio/x-wav"/>
  <Override PartName="/ppt/media/zipup202.wav" ContentType="audio/x-wav"/>
  <Override PartName="/ppt/media/lzipup01.wav" ContentType="audio/x-wav"/>
  <Override PartName="/ppt/media/laser.wav" ContentType="audio/x-wav"/>
  <Override PartName="/ppt/media/zapbig0g.wav" ContentType="audio/x-wav"/>
  <Override PartName="/ppt/media/image1.gif" ContentType="image/gif"/>
  <Override PartName="/ppt/media/cool%20man.wav" ContentType="audio/x-wav"/>
  <Override PartName="/ppt/media/carbrake.wav" ContentType="audio/x-wav"/>
  <Override PartName="/ppt/media/zipby102.wav" ContentType="audio/x-wav"/>
  <Override PartName="/ppt/media/chimes.wav" ContentType="audio/x-wav"/>
  <Override PartName="/ppt/media/gunshot.wav" ContentType="audio/x-wav"/>
  <Override PartName="/ppt/media/driveby.wav" ContentType="audio/x-wav"/>
  <Override PartName="/ppt/media/kisbig07.wav" ContentType="audio/x-wav"/>
  <Override PartName="/ppt/media/byipee04.wav" ContentType="audio/x-wav"/>
  <Override PartName="/ppt/media/projctor.wav" ContentType="audio/x-wav"/>
  <Override PartName="/ppt/media/highchime.wav" ContentType="audio/x-wav"/>
  <Override PartName="/ppt/media/camera.wav" ContentType="audio/x-wav"/>
  <Override PartName="/ppt/media/zapvib04.wav" ContentType="audio/x-wav"/>
  <Override PartName="/ppt/media/zipdn102.wav" ContentType="audio/x-wav"/>
  <Override PartName="/ppt/media/gla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5D8-0F8E-45F7-AD90-42AFF762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885-112E-4F9B-9DF3-D8310E4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80-D33A-44FD-A1EE-896D589F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212-9A03-4D5D-BB51-3F646471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BA7-0092-438F-941C-741C0A4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6A6-4149-49E4-986B-05C2B8C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AAF-A8D8-46A1-937F-D8C4AF1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D60-1CE0-42D5-A0E6-3651DB6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3E5-6F63-460F-8B07-B34520D4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5AF-EEFF-4584-9CD2-C5DFB9F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AB7-B7B4-4723-BB74-450AC81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572-DEE4-4083-A5D8-09B39A0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2067-7B5B-408C-A800-63B1B42B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driveby.wav"/><Relationship Id="rId6" Type="http://schemas.openxmlformats.org/officeDocument/2006/relationships/audio" Target="../media/jetflyby2.wav"/><Relationship Id="rId7" Type="http://schemas.openxmlformats.org/officeDocument/2006/relationships/audio" Target="../media/lzipup01.wav"/><Relationship Id="rId8" Type="http://schemas.openxmlformats.org/officeDocument/2006/relationships/audio" Target="../media/lzipup01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peopleooo.wav"/><Relationship Id="rId14" Type="http://schemas.openxmlformats.org/officeDocument/2006/relationships/audio" Target="../media/peopleooo.wav"/><Relationship Id="rId15" Type="http://schemas.openxmlformats.org/officeDocument/2006/relationships/audio" Target="../media/driveby.wav"/><Relationship Id="rId16" Type="http://schemas.openxmlformats.org/officeDocument/2006/relationships/audio" Target="../media/zapbig0g.wav"/><Relationship Id="rId17" Type="http://schemas.openxmlformats.org/officeDocument/2006/relationships/audio" Target="../media/laser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driveby.wav"/><Relationship Id="rId21" Type="http://schemas.openxmlformats.org/officeDocument/2006/relationships/audio" Target="../media/boinng04.wav"/><Relationship Id="rId22" Type="http://schemas.openxmlformats.org/officeDocument/2006/relationships/audio" Target="../media/boinng04.wav"/><Relationship Id="rId23" Type="http://schemas.openxmlformats.org/officeDocument/2006/relationships/audio" Target="../media/gunshot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kisbig07.wav"/><Relationship Id="rId28" Type="http://schemas.openxmlformats.org/officeDocument/2006/relationships/audio" Target="../media/kisbig07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apbig0g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peopleooo.wav"/><Relationship Id="rId17" Type="http://schemas.openxmlformats.org/officeDocument/2006/relationships/audio" Target="../media/peopleooo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laser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audio" Target="../media/boinng04.wav"/><Relationship Id="rId25" Type="http://schemas.openxmlformats.org/officeDocument/2006/relationships/audio" Target="../media/kisbig07.wav"/><Relationship Id="rId26" Type="http://schemas.openxmlformats.org/officeDocument/2006/relationships/audio" Target="../media/byipee04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lzipup01.wav"/><Relationship Id="rId3" Type="http://schemas.openxmlformats.org/officeDocument/2006/relationships/audio" Target="../media/lzipup01.wav"/><Relationship Id="rId4" Type="http://schemas.openxmlformats.org/officeDocument/2006/relationships/audio" Target="../media/lzipup01.wav"/><Relationship Id="rId5" Type="http://schemas.openxmlformats.org/officeDocument/2006/relationships/audio" Target="../media/driveby.wav"/><Relationship Id="rId6" Type="http://schemas.openxmlformats.org/officeDocument/2006/relationships/audio" Target="../media/jetflyby2.wav"/><Relationship Id="rId7" Type="http://schemas.openxmlformats.org/officeDocument/2006/relationships/audio" Target="../media/lzipup01.wav"/><Relationship Id="rId8" Type="http://schemas.openxmlformats.org/officeDocument/2006/relationships/audio" Target="../media/lzipup01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peopleooo.wav"/><Relationship Id="rId14" Type="http://schemas.openxmlformats.org/officeDocument/2006/relationships/audio" Target="../media/peopleooo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laser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driveby.wav"/><Relationship Id="rId21" Type="http://schemas.openxmlformats.org/officeDocument/2006/relationships/audio" Target="../media/boinng04.wav"/><Relationship Id="rId22" Type="http://schemas.openxmlformats.org/officeDocument/2006/relationships/audio" Target="../media/kisbig07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ipup202.wav"/><Relationship Id="rId3" Type="http://schemas.openxmlformats.org/officeDocument/2006/relationships/audio" Target="../media/highchime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jetflyby2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zapbig0g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gunshot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peopleooo.wav"/><Relationship Id="rId23" Type="http://schemas.openxmlformats.org/officeDocument/2006/relationships/audio" Target="../media/peopleooo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laser.wav"/><Relationship Id="rId27" Type="http://schemas.openxmlformats.org/officeDocument/2006/relationships/audio" Target="../media/zipdn102.wav"/><Relationship Id="rId28" Type="http://schemas.openxmlformats.org/officeDocument/2006/relationships/audio" Target="../media/zipdn102.wav"/><Relationship Id="rId29" Type="http://schemas.openxmlformats.org/officeDocument/2006/relationships/audio" Target="../media/driveby.wav"/><Relationship Id="rId30" Type="http://schemas.openxmlformats.org/officeDocument/2006/relationships/audio" Target="../media/boinng04.wav"/><Relationship Id="rId31" Type="http://schemas.openxmlformats.org/officeDocument/2006/relationships/audio" Target="../media/kisbig07.wav"/><Relationship Id="rId32" Type="http://schemas.openxmlformats.org/officeDocument/2006/relationships/audio" Target="../media/cool%20man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jetflyby2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zapbig0g.wav"/><Relationship Id="rId12" Type="http://schemas.openxmlformats.org/officeDocument/2006/relationships/audio" Target="../media/zapvib04.wav"/><Relationship Id="rId13" Type="http://schemas.openxmlformats.org/officeDocument/2006/relationships/audio" Target="../media/driveby.wav"/><Relationship Id="rId14" Type="http://schemas.openxmlformats.org/officeDocument/2006/relationships/audio" Target="../media/jetflyby2.wav"/><Relationship Id="rId15" Type="http://schemas.openxmlformats.org/officeDocument/2006/relationships/audio" Target="../media/lzipup01.wav"/><Relationship Id="rId16" Type="http://schemas.openxmlformats.org/officeDocument/2006/relationships/audio" Target="../media/lzipup01.wav"/><Relationship Id="rId17" Type="http://schemas.openxmlformats.org/officeDocument/2006/relationships/audio" Target="../media/gunshot.wav"/><Relationship Id="rId18" Type="http://schemas.openxmlformats.org/officeDocument/2006/relationships/audio" Target="../media/laser.wav"/><Relationship Id="rId19" Type="http://schemas.openxmlformats.org/officeDocument/2006/relationships/audio" Target="../media/gunshot.wav"/><Relationship Id="rId20" Type="http://schemas.openxmlformats.org/officeDocument/2006/relationships/audio" Target="../media/laser.wav"/><Relationship Id="rId21" Type="http://schemas.openxmlformats.org/officeDocument/2006/relationships/audio" Target="../media/peopleooo.wav"/><Relationship Id="rId22" Type="http://schemas.openxmlformats.org/officeDocument/2006/relationships/audio" Target="../media/peopleooo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laser.wav"/><Relationship Id="rId26" Type="http://schemas.openxmlformats.org/officeDocument/2006/relationships/audio" Target="../media/zipdn102.wav"/><Relationship Id="rId27" Type="http://schemas.openxmlformats.org/officeDocument/2006/relationships/audio" Target="../media/zipdn102.wav"/><Relationship Id="rId28" Type="http://schemas.openxmlformats.org/officeDocument/2006/relationships/audio" Target="../media/driveby.wav"/><Relationship Id="rId29" Type="http://schemas.openxmlformats.org/officeDocument/2006/relationships/audio" Target="../media/boinng04.wav"/><Relationship Id="rId30" Type="http://schemas.openxmlformats.org/officeDocument/2006/relationships/audio" Target="../media/kisbig07.wav"/><Relationship Id="rId31" Type="http://schemas.openxmlformats.org/officeDocument/2006/relationships/audio" Target="../media/cool%20man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52280" y="2057400"/>
                <a:ext cx="31957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480060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35812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76520" y="3581280"/>
                <a:ext cx="728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3505320" y="2286000"/>
            <a:ext cx="1600200" cy="457200"/>
            <a:chOff x="3505320" y="2286000"/>
            <a:chExt cx="1600200" cy="457200"/>
          </a:xfrm>
        </p:grpSpPr>
        <p:sp>
          <p:nvSpPr>
            <p:cNvPr id="49" name=""/>
            <p:cNvSpPr/>
            <p:nvPr/>
          </p:nvSpPr>
          <p:spPr>
            <a:xfrm>
              <a:off x="3581280" y="22860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22860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11800" y="1981080"/>
                <a:ext cx="3105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752480" y="419112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5120" y="41911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743200" y="41911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95480" y="41911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5120" y="4876920"/>
                <a:ext cx="457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362320" y="4724280"/>
                <a:ext cx="823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15000" y="2057400"/>
                <a:ext cx="412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934320" y="441972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43800" y="4267080"/>
                <a:ext cx="777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62320" y="3581280"/>
                <a:ext cx="10951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10080" y="259092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0120" y="2590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105520" y="32004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630840" y="3170160"/>
                <a:ext cx="77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543800" y="3200400"/>
                <a:ext cx="863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713640" y="3817800"/>
            <a:ext cx="5331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9600" y="37418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7856640" y="381780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932600" y="37418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H="1">
            <a:off x="1676160" y="20574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2057400"/>
                <a:ext cx="3241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49680" y="5486400"/>
                <a:ext cx="1789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419720" y="3505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505320"/>
                <a:ext cx="728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3505320" y="1979280"/>
            <a:ext cx="990360" cy="581400"/>
            <a:chOff x="3505320" y="1979280"/>
            <a:chExt cx="990360" cy="581400"/>
          </a:xfrm>
        </p:grpSpPr>
        <p:sp>
          <p:nvSpPr>
            <p:cNvPr id="80" name=""/>
            <p:cNvSpPr/>
            <p:nvPr/>
          </p:nvSpPr>
          <p:spPr>
            <a:xfrm>
              <a:off x="3505320" y="25146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733920" y="197892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" y="3809880"/>
                <a:ext cx="27399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791320" y="4114800"/>
            <a:ext cx="7617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965920" y="40924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781680" y="4114800"/>
            <a:ext cx="6098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956280" y="4092480"/>
                <a:ext cx="411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43600" y="4800600"/>
                <a:ext cx="457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00800" y="4648320"/>
                <a:ext cx="824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6640" y="3902040"/>
                <a:ext cx="412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32000" y="5029200"/>
                <a:ext cx="1190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00800" y="3483000"/>
                <a:ext cx="1095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1720" y="443556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14600" y="44197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27160" y="50450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28800" y="5181480"/>
                <a:ext cx="5014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H="1">
            <a:off x="55623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48320" y="2057400"/>
                <a:ext cx="685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57800" y="205740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00800" y="20574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3505320" y="2666880"/>
            <a:ext cx="990360" cy="579600"/>
            <a:chOff x="3505320" y="2666880"/>
            <a:chExt cx="990360" cy="579600"/>
          </a:xfrm>
        </p:grpSpPr>
        <p:sp>
          <p:nvSpPr>
            <p:cNvPr id="101" name=""/>
            <p:cNvSpPr/>
            <p:nvPr/>
          </p:nvSpPr>
          <p:spPr>
            <a:xfrm>
              <a:off x="3505320" y="3200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33920" y="2666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2819520"/>
                <a:ext cx="28306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4" name=""/>
          <p:cNvCxnSpPr/>
          <p:nvPr/>
        </p:nvCxnSpPr>
        <p:spPr>
          <a:xfrm rot="5400000">
            <a:off x="-185040" y="3003480"/>
            <a:ext cx="1837440" cy="554760"/>
          </a:xfrm>
          <a:prstGeom prst="curvedConnector5">
            <a:avLst>
              <a:gd name="adj1" fmla="val 6995"/>
              <a:gd name="adj2" fmla="val 79480"/>
              <a:gd name="adj3" fmla="val 69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2057400"/>
                <a:ext cx="3241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6680" y="5486400"/>
                <a:ext cx="1733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09480" y="35812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43000" y="3581280"/>
                <a:ext cx="11383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3505320" y="1981080"/>
            <a:ext cx="990360" cy="579600"/>
            <a:chOff x="3505320" y="1981080"/>
            <a:chExt cx="990360" cy="579600"/>
          </a:xfrm>
        </p:grpSpPr>
        <p:sp>
          <p:nvSpPr>
            <p:cNvPr id="113" name=""/>
            <p:cNvSpPr/>
            <p:nvPr/>
          </p:nvSpPr>
          <p:spPr>
            <a:xfrm>
              <a:off x="3505320" y="25146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733920" y="19810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23000" y="2133720"/>
                <a:ext cx="3105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523880" y="421308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94000" y="4191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514600" y="421308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84360" y="4191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54200" y="4853160"/>
                <a:ext cx="5014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33720" y="4746600"/>
                <a:ext cx="823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95880" y="2209680"/>
                <a:ext cx="412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02280" y="3352680"/>
                <a:ext cx="1144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63600" y="3581280"/>
                <a:ext cx="1187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2743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162920" y="2743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875120" y="33685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499080" y="354960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H="1">
            <a:off x="838080" y="2057400"/>
            <a:ext cx="4572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2895480"/>
                <a:ext cx="4554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5280" y="2895480"/>
                <a:ext cx="455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895480"/>
                <a:ext cx="455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143000"/>
            <a:ext cx="701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4. An pharmacy mailed 300 advertisements, smaller ads requiring $.33 postage and larger ads requiring $.55 postage. If the total cost of postage was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$154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, find the number of advertisements mailed at each r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9360" y="3182760"/>
                <a:ext cx="24192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91960" y="3792600"/>
                <a:ext cx="10479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60360" y="3792600"/>
                <a:ext cx="14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77960" y="3792600"/>
                <a:ext cx="1368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09256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949560" y="3106800"/>
            <a:ext cx="1295280" cy="520560"/>
            <a:chOff x="3949560" y="3106800"/>
            <a:chExt cx="1295280" cy="520560"/>
          </a:xfrm>
        </p:grpSpPr>
        <p:sp>
          <p:nvSpPr>
            <p:cNvPr id="142" name=""/>
            <p:cNvSpPr/>
            <p:nvPr/>
          </p:nvSpPr>
          <p:spPr>
            <a:xfrm>
              <a:off x="3949560" y="3564000"/>
              <a:ext cx="11264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1880" y="3106800"/>
              <a:ext cx="11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.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88200" y="3182760"/>
                <a:ext cx="1369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68348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092560" y="44784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8840" y="4500720"/>
                <a:ext cx="1001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951600" y="511020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921360" y="50878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124840" y="51325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94600" y="5110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72280" y="5727600"/>
                <a:ext cx="320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531200" y="5697360"/>
                <a:ext cx="141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767720" y="4500720"/>
                <a:ext cx="11412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H="1">
            <a:off x="5549400" y="31068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178160" y="3639960"/>
            <a:ext cx="990360" cy="579600"/>
            <a:chOff x="4178160" y="3639960"/>
            <a:chExt cx="990360" cy="579600"/>
          </a:xfrm>
        </p:grpSpPr>
        <p:sp>
          <p:nvSpPr>
            <p:cNvPr id="157" name=""/>
            <p:cNvSpPr/>
            <p:nvPr/>
          </p:nvSpPr>
          <p:spPr>
            <a:xfrm>
              <a:off x="4178160" y="41734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06760" y="363996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97480" y="3792600"/>
                <a:ext cx="365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8600" y="4707000"/>
                <a:ext cx="3562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11280" y="4782960"/>
                <a:ext cx="1009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25680" y="6078600"/>
                <a:ext cx="1144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30400" y="5392800"/>
                <a:ext cx="1371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54280" y="539280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66840" y="6018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14560" y="6200640"/>
                <a:ext cx="4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7" name=""/>
          <p:cNvCxnSpPr/>
          <p:nvPr/>
        </p:nvCxnSpPr>
        <p:spPr>
          <a:xfrm flipV="1" rot="10800000">
            <a:off x="519840" y="3502440"/>
            <a:ext cx="929520" cy="1593000"/>
          </a:xfrm>
          <a:prstGeom prst="curvedConnector5">
            <a:avLst>
              <a:gd name="adj1" fmla="val 124602"/>
              <a:gd name="adj2" fmla="val 50000"/>
              <a:gd name="adj3" fmla="val 1246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178160" y="569736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0 small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 large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143000"/>
            <a:ext cx="7086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5. An pharmacy mailed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320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advertisements, smaller ads requiring $.33 postage and larger ads requiring $.55 postage. If the total cost of postage was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$121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, find the number of advertisements mailed at each r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09680" y="3182760"/>
                <a:ext cx="24192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2280" y="3792600"/>
                <a:ext cx="10479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20680" y="3792600"/>
                <a:ext cx="14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460600" y="3814920"/>
                <a:ext cx="1322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7200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3809880" y="3106800"/>
            <a:ext cx="914040" cy="520560"/>
            <a:chOff x="3809880" y="3106800"/>
            <a:chExt cx="914040" cy="520560"/>
          </a:xfrm>
        </p:grpSpPr>
        <p:sp>
          <p:nvSpPr>
            <p:cNvPr id="179" name=""/>
            <p:cNvSpPr/>
            <p:nvPr/>
          </p:nvSpPr>
          <p:spPr>
            <a:xfrm>
              <a:off x="3809880" y="3564000"/>
              <a:ext cx="795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9080" y="3106800"/>
              <a:ext cx="83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.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791320" y="3182760"/>
                <a:ext cx="1369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999120" y="3182760"/>
                <a:ext cx="2144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952880" y="44784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99160" y="4500720"/>
                <a:ext cx="1001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811920" y="511020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81680" y="50878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985160" y="51325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954920" y="5110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32600" y="5727600"/>
                <a:ext cx="320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27960" y="5697360"/>
                <a:ext cx="1143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467480" y="4478400"/>
                <a:ext cx="1506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 flipH="1">
            <a:off x="5181120" y="31068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9880" y="3639960"/>
            <a:ext cx="762120" cy="579600"/>
            <a:chOff x="3809880" y="3639960"/>
            <a:chExt cx="762120" cy="579600"/>
          </a:xfrm>
        </p:grpSpPr>
        <p:sp>
          <p:nvSpPr>
            <p:cNvPr id="194" name=""/>
            <p:cNvSpPr/>
            <p:nvPr/>
          </p:nvSpPr>
          <p:spPr>
            <a:xfrm>
              <a:off x="3809880" y="4173480"/>
              <a:ext cx="7621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985560" y="3639960"/>
              <a:ext cx="23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3792600"/>
                <a:ext cx="360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58920" y="4707000"/>
                <a:ext cx="3562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08040" y="4782960"/>
                <a:ext cx="735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09680" y="6078600"/>
                <a:ext cx="1419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27160" y="539280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651040" y="539280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27160" y="6018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74880" y="6200640"/>
                <a:ext cx="4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4" name=""/>
          <p:cNvCxnSpPr/>
          <p:nvPr/>
        </p:nvCxnSpPr>
        <p:spPr>
          <a:xfrm flipV="1" rot="10800000">
            <a:off x="380160" y="3502440"/>
            <a:ext cx="929520" cy="1593000"/>
          </a:xfrm>
          <a:prstGeom prst="curvedConnector5">
            <a:avLst>
              <a:gd name="adj1" fmla="val 124602"/>
              <a:gd name="adj2" fmla="val 50000"/>
              <a:gd name="adj3" fmla="val 1246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4038480" y="569736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 small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70 large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4-11-29T20:09:26Z</dcterms:modified>
  <cp:revision>125</cp:revision>
  <dc:subject/>
  <dc:title>PowerPoint Presentation</dc:title>
</cp:coreProperties>
</file>